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E9B-3A08-4074-92B9-032B45AA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985-1DC9-47D7-BAB1-02A23EC4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6EA-B7EB-423C-B4FB-597B17BE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6D0-8876-46D4-A79F-0BCC8AB2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32C-D64F-4780-B9B7-29536EC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5A1-AC16-4E16-B6DF-401402F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242-EB6F-4114-ACB8-F011B19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7B1-22A1-460E-ADF5-B89D42E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0B5-DFE5-4507-AA14-812ACC7F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111-48F5-43B7-B59D-6C236CB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455-F067-45C7-8D3D-E27C25C2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9DB-F37D-4D64-B88D-1D6A167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71E4-8DAA-4CCB-8E90-3346F9E1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11430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ff The Fable </a:t>
            </a: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The 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And Th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0"/>
            <a:ext cx="9067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Bully And The KI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659680" y="5599080"/>
            <a:ext cx="30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: Dark N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3 -0.04232 L 0.57917 0.76786 E">
                                      <p:cBhvr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22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99"/>
                </a:solidFill>
                <a:latin typeface="Script MT Bold"/>
              </a:rPr>
              <a:t>No act of kindness no matter how small is ever waste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2000000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Charac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hiller"/>
              </a:rPr>
              <a:t>Sheldon the wimpy 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rett the b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Viner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Viner Hand ITC"/>
              </a:rPr>
              <a:t>Mr. Smith the math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ett the bully was a very large and strong kid. He was a bully and liked to take peoples lunch money. One day on a crisp fall morning Brett was walking to school when he saw a kid named Sheldon. Sheldon was a small, scrawny kid who got picked on a lot. Brett ran over to Sheldon and picked him up by his shi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66880" y="34290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PubOvalCallout"/>
          <p:cNvSpPr/>
          <p:nvPr/>
        </p:nvSpPr>
        <p:spPr>
          <a:xfrm flipH="1" rot="14378400">
            <a:off x="1253520" y="3698640"/>
            <a:ext cx="1911600" cy="2133720"/>
          </a:xfrm>
          <a:custGeom>
            <a:avLst/>
            <a:gdLst>
              <a:gd name="textAreaLeft" fmla="*/ 279720 w 1911600"/>
              <a:gd name="textAreaRight" fmla="*/ 1631880 w 191160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me all your lunch money or e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OvalCallout"/>
          <p:cNvSpPr/>
          <p:nvPr/>
        </p:nvSpPr>
        <p:spPr>
          <a:xfrm flipH="1" rot="5947200">
            <a:off x="6071760" y="3985200"/>
            <a:ext cx="2943000" cy="2439000"/>
          </a:xfrm>
          <a:custGeom>
            <a:avLst/>
            <a:gdLst>
              <a:gd name="textAreaLeft" fmla="*/ 430920 w 2943000"/>
              <a:gd name="textAreaRight" fmla="*/ 2512080 w 2943000"/>
              <a:gd name="textAreaTop" fmla="*/ 267840 h 2439000"/>
              <a:gd name="textAreaBottom" fmla="*/ 1562400 h 2439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don’t hurt me or take my lunch money. Ill make it up to you! I promi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657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ett thought this was funny so he let Sheldon go. The next day at school Brett was in his math class and was right about to take a test for math. When Brett got his test he reached for his pencil in his pocket where he usually keeps it. He couldn’t find it! If he didn’t find a writing utensil soon he’d fail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310824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3733920" cy="245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3618600">
            <a:off x="3962520" y="3657600"/>
            <a:ext cx="2133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tt couldn’t go get a pencil from his locker because the bell already rang and if he asked his mean math teacher Mr. Smith for a pencil, Mr. Smith would just yell at him for being unprepared and such. Just then Sheldon saw Brett’s predicament. Sheldon walked over to Brett's desk and gave him a spare pencil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3451320"/>
            <a:ext cx="5105160" cy="340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9883800">
            <a:off x="-685440" y="47998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PubOvalCallout"/>
          <p:cNvSpPr/>
          <p:nvPr/>
        </p:nvSpPr>
        <p:spPr>
          <a:xfrm rot="18951000">
            <a:off x="761760" y="3809520"/>
            <a:ext cx="2092320" cy="1355760"/>
          </a:xfrm>
          <a:custGeom>
            <a:avLst/>
            <a:gdLst>
              <a:gd name="textAreaLeft" fmla="*/ 306360 w 2092320"/>
              <a:gd name="textAreaRight" fmla="*/ 1785960 w 2092320"/>
              <a:gd name="textAreaTop" fmla="*/ 149040 h 1355760"/>
              <a:gd name="textAreaBottom" fmla="*/ 868320 h 13557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you g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OvalCallout"/>
          <p:cNvSpPr/>
          <p:nvPr/>
        </p:nvSpPr>
        <p:spPr>
          <a:xfrm flipH="1" rot="3189600">
            <a:off x="5026680" y="3428640"/>
            <a:ext cx="1981080" cy="2133720"/>
          </a:xfrm>
          <a:custGeom>
            <a:avLst/>
            <a:gdLst>
              <a:gd name="textAreaLeft" fmla="*/ 289800 w 1981080"/>
              <a:gd name="textAreaRight" fmla="*/ 1691280 w 198108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!! Thank you so mu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906000">
            <a:off x="2590560" y="3886200"/>
            <a:ext cx="761760" cy="34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4971E-006 L 0.40001 0.0222 E">
                                      <p:cBhvr>
                                        <p:cTn id="13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393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don saved Brett’s life but not literally though. Since Sheldon gave Brett  a pencil Brett ended up getting an A+ on his test, and it was all thanks to Sheld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640080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209232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PubOvalCallout"/>
          <p:cNvSpPr/>
          <p:nvPr/>
        </p:nvSpPr>
        <p:spPr>
          <a:xfrm rot="17030400">
            <a:off x="799920" y="2324520"/>
            <a:ext cx="1828800" cy="19047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209160 h 1904760"/>
              <a:gd name="textAreaBottom" fmla="*/ 1220040 h 19047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! Thank you Sheld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22250" t="0" r="-25143" b="1818"/>
          <a:stretch/>
        </p:blipFill>
        <p:spPr>
          <a:xfrm>
            <a:off x="6553080" y="220968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ubOvalCallout"/>
          <p:cNvSpPr/>
          <p:nvPr/>
        </p:nvSpPr>
        <p:spPr>
          <a:xfrm rot="17653200">
            <a:off x="5514840" y="3800160"/>
            <a:ext cx="1798560" cy="1960560"/>
          </a:xfrm>
          <a:custGeom>
            <a:avLst/>
            <a:gdLst>
              <a:gd name="textAreaLeft" fmla="*/ 263160 w 1798560"/>
              <a:gd name="textAreaRight" fmla="*/ 1535400 w 1798560"/>
              <a:gd name="textAreaTop" fmla="*/ 215280 h 1960560"/>
              <a:gd name="textAreaBottom" fmla="*/ 1256040 h 19605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Good Job and your wel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569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23Z</dcterms:created>
  <dc:creator>install</dc:creator>
  <dc:description/>
  <dc:language>en-US</dc:language>
  <cp:lastModifiedBy>install</cp:lastModifiedBy>
  <dcterms:modified xsi:type="dcterms:W3CDTF">2011-05-09T15:52:32Z</dcterms:modified>
  <cp:revision>11</cp:revision>
  <dc:subject/>
  <dc:title>Slide 1</dc:title>
</cp:coreProperties>
</file>